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push.wav" ContentType="audio/x-wav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883-C6F7-4235-B63E-F6A78585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FBE-C30E-4E60-BCDB-2AB2527E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849-0FFC-453C-B654-9DFCFEE7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DB7-7280-4203-8924-2A7DF945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845-52E0-40C2-834D-B9B40A6F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211-B479-41C0-868F-3CDA09D1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111-6A10-497A-B948-B440D432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CDB-6064-49F5-BBF1-C0BB251D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461-BC9B-4C55-A4B7-9006AA45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C69-8B5C-4C4B-9A6F-A20F033E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9EB-835B-4602-9EA3-AA701899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E45-24BE-4F91-8690-757B123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B770-0FCE-46FF-861C-22922D991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79080" y="620640"/>
            <a:ext cx="558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en-US" sz="66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课灿烂的青铜文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四羊方尊"/>
          <p:cNvPicPr/>
          <p:nvPr/>
        </p:nvPicPr>
        <p:blipFill>
          <a:blip r:embed="rId2"/>
          <a:stretch/>
        </p:blipFill>
        <p:spPr>
          <a:xfrm>
            <a:off x="457200" y="3048120"/>
            <a:ext cx="316692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司母鼎"/>
          <p:cNvPicPr/>
          <p:nvPr/>
        </p:nvPicPr>
        <p:blipFill>
          <a:blip r:embed="rId3"/>
          <a:stretch/>
        </p:blipFill>
        <p:spPr>
          <a:xfrm>
            <a:off x="4114800" y="2209680"/>
            <a:ext cx="387684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79280" y="189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既然在夏商西周时期的手工业、农业、畜牧业和商业都很发达，为什么要以“青铜”作为当时文明的象征呢？“青铜文明”又是指的什么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65720" y="2513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器时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2484360" y="285264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635280" y="2492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青铜时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900000" y="3141720"/>
            <a:ext cx="7488360" cy="3259080"/>
          </a:xfrm>
          <a:prstGeom prst="upArrowCallout">
            <a:avLst>
              <a:gd name="adj1" fmla="val 57448"/>
              <a:gd name="adj2" fmla="val 57442"/>
              <a:gd name="adj3" fmla="val 16667"/>
              <a:gd name="adj4" fmla="val 666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青铜时代就是人类使用青铜制作生产工具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武器及生活用具的文化发展阶段。当时的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铜器已经渗透到农业、手工业、畜牧业及商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之中，具有广泛的代表性。而在这个时代人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创造的物质文化，便被称作“青铜文明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12760" y="228600"/>
            <a:ext cx="847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三、奴隶的悲惨命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与“灿烂的青铜文明”相比，奴隶们却过着悲惨的生活，根据下列资料，说说奴隶们的处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0" y="4653000"/>
            <a:ext cx="896472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明奴隶牛马不如，可以随意买卖或转让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地位低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975960" y="1600200"/>
            <a:ext cx="7253280" cy="2709360"/>
            <a:chOff x="975960" y="1600200"/>
            <a:chExt cx="7253280" cy="2709360"/>
          </a:xfrm>
        </p:grpSpPr>
        <p:sp>
          <p:nvSpPr>
            <p:cNvPr id="140" name="Text Box 5"/>
            <p:cNvSpPr/>
            <p:nvPr/>
          </p:nvSpPr>
          <p:spPr>
            <a:xfrm>
              <a:off x="1473840" y="16002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图片资料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975960" y="2196000"/>
              <a:ext cx="7253280" cy="2113560"/>
              <a:chOff x="975960" y="2196000"/>
              <a:chExt cx="7253280" cy="2113560"/>
            </a:xfrm>
          </p:grpSpPr>
          <p:pic>
            <p:nvPicPr>
              <p:cNvPr id="142" name="Picture 7" descr="奴隶买卖"/>
              <p:cNvPicPr/>
              <p:nvPr/>
            </p:nvPicPr>
            <p:blipFill>
              <a:blip r:embed="rId1"/>
              <a:srcRect l="0" t="0" r="0" b="28803"/>
              <a:stretch/>
            </p:blipFill>
            <p:spPr>
              <a:xfrm>
                <a:off x="975960" y="2196000"/>
                <a:ext cx="7253280" cy="165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Text Box 8"/>
              <p:cNvSpPr/>
              <p:nvPr/>
            </p:nvSpPr>
            <p:spPr>
              <a:xfrm>
                <a:off x="1048680" y="3849840"/>
                <a:ext cx="718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   </a:t>
                </a:r>
                <a:r>
                  <a:rPr b="1" lang="zh-CN" sz="24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在西周一件青铜器上，记载着一个奴隶主向另外一个奴隶主买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5</a:t>
                </a:r>
                <a:r>
                  <a:rPr b="1" lang="zh-CN" sz="24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名奴隶，标价是一匹马加一束丝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397520" y="304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图片资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奴隶俑"/>
          <p:cNvPicPr/>
          <p:nvPr/>
        </p:nvPicPr>
        <p:blipFill>
          <a:blip r:embed="rId1"/>
          <a:stretch/>
        </p:blipFill>
        <p:spPr>
          <a:xfrm>
            <a:off x="1066680" y="1371600"/>
            <a:ext cx="2907000" cy="3581280"/>
          </a:xfrm>
          <a:prstGeom prst="rect">
            <a:avLst/>
          </a:prstGeom>
          <a:ln w="0">
            <a:noFill/>
          </a:ln>
        </p:spPr>
      </p:pic>
      <p:sp>
        <p:nvSpPr>
          <p:cNvPr id="146" name="Oval 4"/>
          <p:cNvSpPr/>
          <p:nvPr/>
        </p:nvSpPr>
        <p:spPr>
          <a:xfrm>
            <a:off x="5257800" y="1981080"/>
            <a:ext cx="3706920" cy="2743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说明奴隶没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人身自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93080" y="3031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字资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070000" y="99072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在河南安阳殷墟，发现一座大型祭祀坑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有三百多具骨骸，他们是作为祭品被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奴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另：在安阳的一座商王大墓中，有四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具奴隶作为殉葬品被活埋或杀死。他们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车马、狗同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914400" y="4343400"/>
            <a:ext cx="7467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说明：奴隶作为奴隶主的殉葬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可以被任意的杀死或活埋。奴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的地位和猪狗一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2708280"/>
            <a:ext cx="9137520" cy="820440"/>
            <a:chOff x="0" y="2708280"/>
            <a:chExt cx="9137520" cy="820440"/>
          </a:xfrm>
        </p:grpSpPr>
        <p:sp>
          <p:nvSpPr>
            <p:cNvPr id="151" name="Rectangle 3"/>
            <p:cNvSpPr/>
            <p:nvPr/>
          </p:nvSpPr>
          <p:spPr>
            <a:xfrm>
              <a:off x="0" y="2708280"/>
              <a:ext cx="913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0" y="2708280"/>
              <a:ext cx="913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奴隶主祭祀祖先：屠杀大量的奴隶作为供品。（人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5"/>
          <p:cNvGrpSpPr/>
          <p:nvPr/>
        </p:nvGrpSpPr>
        <p:grpSpPr>
          <a:xfrm>
            <a:off x="-1189080" y="2708280"/>
            <a:ext cx="11693520" cy="639720"/>
            <a:chOff x="-1189080" y="2708280"/>
            <a:chExt cx="11693520" cy="639720"/>
          </a:xfrm>
        </p:grpSpPr>
        <p:sp>
          <p:nvSpPr>
            <p:cNvPr id="154" name="Rectangle 6"/>
            <p:cNvSpPr/>
            <p:nvPr/>
          </p:nvSpPr>
          <p:spPr>
            <a:xfrm>
              <a:off x="-1189080" y="2708280"/>
              <a:ext cx="11693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-1189080" y="2708280"/>
              <a:ext cx="11693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奴隶主死后：奴隶被杀死或活埋，作为殉葬品。（人殉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-1116000" y="4869000"/>
            <a:ext cx="11693520" cy="5013360"/>
            <a:chOff x="-1116000" y="4869000"/>
            <a:chExt cx="11693520" cy="5013360"/>
          </a:xfrm>
        </p:grpSpPr>
        <p:sp>
          <p:nvSpPr>
            <p:cNvPr id="157" name="Rectangle 9"/>
            <p:cNvSpPr/>
            <p:nvPr/>
          </p:nvSpPr>
          <p:spPr>
            <a:xfrm>
              <a:off x="-1116000" y="4869000"/>
              <a:ext cx="1169352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-1116000" y="4869000"/>
              <a:ext cx="1169352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Picture 11" descr="yinxumuzang"/>
          <p:cNvPicPr/>
          <p:nvPr/>
        </p:nvPicPr>
        <p:blipFill>
          <a:blip r:embed="rId1"/>
          <a:stretch/>
        </p:blipFill>
        <p:spPr>
          <a:xfrm>
            <a:off x="2627280" y="404640"/>
            <a:ext cx="4822920" cy="5732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-452880" y="1219320"/>
            <a:ext cx="2754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黑体"/>
              </a:rPr>
              <a:t>殷墟武官村大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位著名考古学家说：商代文化实在是一个灿烂的文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瞪眼男孩"/>
          <p:cNvPicPr/>
          <p:nvPr/>
        </p:nvPicPr>
        <p:blipFill>
          <a:blip r:embed="rId1"/>
          <a:stretch/>
        </p:blipFill>
        <p:spPr>
          <a:xfrm>
            <a:off x="2556000" y="4005360"/>
            <a:ext cx="1944720" cy="18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眨眼女孩"/>
          <p:cNvPicPr/>
          <p:nvPr/>
        </p:nvPicPr>
        <p:blipFill>
          <a:blip r:embed="rId2"/>
          <a:stretch/>
        </p:blipFill>
        <p:spPr>
          <a:xfrm>
            <a:off x="4643280" y="4076640"/>
            <a:ext cx="1729080" cy="18972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539640" y="1557360"/>
            <a:ext cx="3780000" cy="2592360"/>
          </a:xfrm>
          <a:prstGeom prst="cloudCallout">
            <a:avLst>
              <a:gd name="adj1" fmla="val 20138"/>
              <a:gd name="adj2" fmla="val 917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500720" y="1413000"/>
            <a:ext cx="3887640" cy="2625480"/>
          </a:xfrm>
          <a:prstGeom prst="cloudCallout">
            <a:avLst>
              <a:gd name="adj1" fmla="val 3083"/>
              <a:gd name="adj2" fmla="val 960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84360" y="2565360"/>
            <a:ext cx="237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042920" y="2060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我认为考古学家说得很对。这是祖国历史上的一个光辉时代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219640" y="191628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不对，那时候多么黑暗，奴隶过着牛马不如的生活，有什么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0" y="407664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这是从不同的角度对商代历史的认识。奴隶制固然非常残酷，但这是随着生产力发展、私有制出现的必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732720" y="422100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商代文明较全面地体现了奴隶社会取代原始社会在诸多方面的进步，因此可称得上是灿烂的文明，当然这又是建立在广大奴隶悲惨命运基础上的文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95280" y="260280"/>
            <a:ext cx="8424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著名的商朝司母戊鼎可以证明我国商周时期（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奴隶的高度发展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农耕文明出现原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奴隶的命运十分悲惨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青铜工艺水平高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世界上最早发明瓷器的国家是（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中国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古印度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古埃及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古巴比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在奴隶社会中，从事经济生产的主要是（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奴隶主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奴隶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平民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诸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下列事物出现的先后顺序是（  ）①青铜器 ②陶器 ③石器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①②③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③②①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③①②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②①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夏商周时期灿烂的青铜文明包括（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①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农业   ②手工业   ③畜牧业   ④商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②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②④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①③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①②③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948360" y="260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148360" y="19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6372360" y="299736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859280" y="4076640"/>
            <a:ext cx="2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435640" y="5013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667640" y="260280"/>
            <a:ext cx="100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课堂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妙招巧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9640" y="227664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青铜文明水平高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鼎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尊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三星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三代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9640" y="342900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农牧工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有发展，奴隶命运很悲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 rot="5400000">
            <a:off x="-1257480" y="2400120"/>
            <a:ext cx="472464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00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请你欣赏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000000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2" name="Picture 3" descr="200491215405331465"/>
          <p:cNvPicPr/>
          <p:nvPr/>
        </p:nvPicPr>
        <p:blipFill>
          <a:blip r:embed="rId1"/>
          <a:stretch/>
        </p:blipFill>
        <p:spPr>
          <a:xfrm>
            <a:off x="2971800" y="457200"/>
            <a:ext cx="4927680" cy="5867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毛公鼎"/>
          <p:cNvPicPr/>
          <p:nvPr/>
        </p:nvPicPr>
        <p:blipFill>
          <a:blip r:embed="rId2"/>
          <a:stretch/>
        </p:blipFill>
        <p:spPr>
          <a:xfrm>
            <a:off x="1752480" y="838080"/>
            <a:ext cx="7772400" cy="50641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ver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365040" y="1981080"/>
            <a:ext cx="8778960" cy="2634480"/>
            <a:chOff x="365040" y="1981080"/>
            <a:chExt cx="8778960" cy="2634480"/>
          </a:xfrm>
        </p:grpSpPr>
        <p:sp>
          <p:nvSpPr>
            <p:cNvPr id="185" name="Rectangle 3"/>
            <p:cNvSpPr/>
            <p:nvPr/>
          </p:nvSpPr>
          <p:spPr>
            <a:xfrm>
              <a:off x="433440" y="1981080"/>
              <a:ext cx="8642160" cy="26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     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</a:rPr>
                <a:t>夏、商、西周奴隶制文明辉煌灿烂，源远流长，一脉相承，表明我国古代文明具有强大的生命力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365040" y="1981080"/>
              <a:ext cx="8778960" cy="26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5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936440" y="3524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青铜器的高超工艺（手工业的发展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24000" y="10526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青铜器的发展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4000" y="3789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著名的青铜器有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24000" y="4508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青铜制造业的特点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24640" y="1557360"/>
            <a:ext cx="335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原始社会末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种类逐渐增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青铜文化的灿烂时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种类更加丰富，大量用于祭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067280" y="378936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四羊方尊、司母戊方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1042920" y="1628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青铜器出现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484360" y="2133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夏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484360" y="263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商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2484360" y="3141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西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971640" y="5300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规模大、品种多、工艺精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司母戊鼎1"/>
          <p:cNvPicPr/>
          <p:nvPr/>
        </p:nvPicPr>
        <p:blipFill>
          <a:blip r:embed="rId1"/>
          <a:stretch/>
        </p:blipFill>
        <p:spPr>
          <a:xfrm>
            <a:off x="304920" y="914400"/>
            <a:ext cx="4422600" cy="487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403280" y="5661000"/>
            <a:ext cx="26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司母戊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876920" y="914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9528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181480" y="914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5181480" y="3657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750200" y="281952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38088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4572000" y="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380880" y="304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3"/>
          <p:cNvSpPr/>
          <p:nvPr/>
        </p:nvSpPr>
        <p:spPr>
          <a:xfrm flipH="1">
            <a:off x="3428640" y="304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083680" y="15228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5651640" y="620640"/>
            <a:ext cx="349236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司母戊鼎高</a:t>
            </a: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1.33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米，长</a:t>
            </a: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1.1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米，重</a:t>
            </a: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832.84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千克，是世界现存最大的青铜器。当时，铸造这样一个大鼎，需要二三百人同时操作，可见商朝的青铜铸造业，有多么大的规模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这说明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6"/>
          <p:cNvSpPr/>
          <p:nvPr/>
        </p:nvSpPr>
        <p:spPr>
          <a:xfrm>
            <a:off x="4211640" y="4149720"/>
            <a:ext cx="4678200" cy="209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特点一：生产规模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觥"/>
          <p:cNvPicPr/>
          <p:nvPr/>
        </p:nvPicPr>
        <p:blipFill>
          <a:blip r:embed="rId1"/>
          <a:stretch/>
        </p:blipFill>
        <p:spPr>
          <a:xfrm>
            <a:off x="324000" y="333360"/>
            <a:ext cx="2209680" cy="175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觚"/>
          <p:cNvPicPr/>
          <p:nvPr/>
        </p:nvPicPr>
        <p:blipFill>
          <a:blip r:embed="rId2"/>
          <a:stretch/>
        </p:blipFill>
        <p:spPr>
          <a:xfrm>
            <a:off x="3276720" y="260280"/>
            <a:ext cx="143172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爵"/>
          <p:cNvPicPr/>
          <p:nvPr/>
        </p:nvPicPr>
        <p:blipFill>
          <a:blip r:embed="rId3"/>
          <a:stretch/>
        </p:blipFill>
        <p:spPr>
          <a:xfrm>
            <a:off x="5549760" y="228600"/>
            <a:ext cx="1528920" cy="1828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696080" y="304920"/>
            <a:ext cx="60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酒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盥水器2"/>
          <p:cNvPicPr/>
          <p:nvPr/>
        </p:nvPicPr>
        <p:blipFill>
          <a:blip r:embed="rId4"/>
          <a:stretch/>
        </p:blipFill>
        <p:spPr>
          <a:xfrm>
            <a:off x="304920" y="2666880"/>
            <a:ext cx="2079360" cy="152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盥水器"/>
          <p:cNvPicPr/>
          <p:nvPr/>
        </p:nvPicPr>
        <p:blipFill>
          <a:blip r:embed="rId5"/>
          <a:stretch/>
        </p:blipFill>
        <p:spPr>
          <a:xfrm>
            <a:off x="228600" y="4572000"/>
            <a:ext cx="2308320" cy="1393920"/>
          </a:xfrm>
          <a:prstGeom prst="rect">
            <a:avLst/>
          </a:prstGeom>
          <a:ln w="0">
            <a:noFill/>
          </a:ln>
        </p:spPr>
      </p:pic>
      <p:sp>
        <p:nvSpPr>
          <p:cNvPr id="75" name="Line 8"/>
          <p:cNvSpPr/>
          <p:nvPr/>
        </p:nvSpPr>
        <p:spPr>
          <a:xfrm>
            <a:off x="152280" y="236232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009800" y="6095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盥水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2666880" y="2362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乐器"/>
          <p:cNvPicPr/>
          <p:nvPr/>
        </p:nvPicPr>
        <p:blipFill>
          <a:blip r:embed="rId6"/>
          <a:stretch/>
        </p:blipFill>
        <p:spPr>
          <a:xfrm>
            <a:off x="2819520" y="2743200"/>
            <a:ext cx="50292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8080920" y="281592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乐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2666880" y="4495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4" descr="铜镜"/>
          <p:cNvPicPr/>
          <p:nvPr/>
        </p:nvPicPr>
        <p:blipFill>
          <a:blip r:embed="rId7"/>
          <a:stretch/>
        </p:blipFill>
        <p:spPr>
          <a:xfrm>
            <a:off x="4038480" y="4692600"/>
            <a:ext cx="186876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6709320" y="494964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铜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050920" y="1628640"/>
            <a:ext cx="2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4284720" y="1628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665964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鼎"/>
          <p:cNvPicPr/>
          <p:nvPr/>
        </p:nvPicPr>
        <p:blipFill>
          <a:blip r:embed="rId1"/>
          <a:stretch/>
        </p:blipFill>
        <p:spPr>
          <a:xfrm>
            <a:off x="539640" y="189000"/>
            <a:ext cx="1847880" cy="220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纹豆"/>
          <p:cNvPicPr/>
          <p:nvPr/>
        </p:nvPicPr>
        <p:blipFill>
          <a:blip r:embed="rId2"/>
          <a:stretch/>
        </p:blipFill>
        <p:spPr>
          <a:xfrm>
            <a:off x="2971800" y="304920"/>
            <a:ext cx="1828800" cy="190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鼎1"/>
          <p:cNvPicPr/>
          <p:nvPr/>
        </p:nvPicPr>
        <p:blipFill>
          <a:blip r:embed="rId3"/>
          <a:stretch/>
        </p:blipFill>
        <p:spPr>
          <a:xfrm>
            <a:off x="5410080" y="152280"/>
            <a:ext cx="165096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633080" y="914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食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>
            <a:off x="0" y="28954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兵器"/>
          <p:cNvPicPr/>
          <p:nvPr/>
        </p:nvPicPr>
        <p:blipFill>
          <a:blip r:embed="rId4"/>
          <a:stretch/>
        </p:blipFill>
        <p:spPr>
          <a:xfrm>
            <a:off x="990720" y="3276720"/>
            <a:ext cx="2361960" cy="2050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614240" y="571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兵　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>
            <a:off x="3962520" y="2895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chan"/>
          <p:cNvPicPr/>
          <p:nvPr/>
        </p:nvPicPr>
        <p:blipFill>
          <a:blip r:embed="rId5"/>
          <a:stretch/>
        </p:blipFill>
        <p:spPr>
          <a:xfrm>
            <a:off x="4211640" y="3141720"/>
            <a:ext cx="159696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斧"/>
          <p:cNvPicPr/>
          <p:nvPr/>
        </p:nvPicPr>
        <p:blipFill>
          <a:blip r:embed="rId6"/>
          <a:stretch/>
        </p:blipFill>
        <p:spPr>
          <a:xfrm>
            <a:off x="6300720" y="3141720"/>
            <a:ext cx="108288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zuo"/>
          <p:cNvPicPr/>
          <p:nvPr/>
        </p:nvPicPr>
        <p:blipFill>
          <a:blip r:embed="rId7"/>
          <a:stretch/>
        </p:blipFill>
        <p:spPr>
          <a:xfrm>
            <a:off x="7956720" y="3141720"/>
            <a:ext cx="606240" cy="2133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6262200" y="571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农　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2124000" y="2349360"/>
            <a:ext cx="576108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特点二：品种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197964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406728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纹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659640" y="1844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536400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7020000" y="472428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8101080" y="4653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四羊方尊"/>
          <p:cNvPicPr/>
          <p:nvPr/>
        </p:nvPicPr>
        <p:blipFill>
          <a:blip r:embed="rId1"/>
          <a:stretch/>
        </p:blipFill>
        <p:spPr>
          <a:xfrm>
            <a:off x="0" y="476280"/>
            <a:ext cx="4675320" cy="4724280"/>
          </a:xfrm>
          <a:prstGeom prst="rect">
            <a:avLst/>
          </a:prstGeom>
          <a:ln w="0">
            <a:noFill/>
          </a:ln>
        </p:spPr>
      </p:pic>
      <p:sp>
        <p:nvSpPr>
          <p:cNvPr id="106" name="Line 3"/>
          <p:cNvSpPr/>
          <p:nvPr/>
        </p:nvSpPr>
        <p:spPr>
          <a:xfrm flipV="1">
            <a:off x="2819520" y="1523520"/>
            <a:ext cx="35049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443640" y="692280"/>
            <a:ext cx="235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蕉叶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纹理清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3962520" y="2819520"/>
            <a:ext cx="1981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513840" y="2666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只大卷角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3429000" y="434340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740200" y="4114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羊的前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3276720" y="5013360"/>
            <a:ext cx="58672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三、工艺精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203640" y="2924280"/>
            <a:ext cx="1800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29272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双角龙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0" y="4940280"/>
            <a:ext cx="46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四羊方尊的四角，附着四只向外半伸的 羊，露出羊头和前肢，羊角蜷曲。器物四壁装饰着蟠龙纹，双角龙头点缀在羊头之间，布局新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ush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青铜立人像"/>
          <p:cNvPicPr/>
          <p:nvPr/>
        </p:nvPicPr>
        <p:blipFill>
          <a:blip r:embed="rId1"/>
          <a:stretch/>
        </p:blipFill>
        <p:spPr>
          <a:xfrm>
            <a:off x="380880" y="228600"/>
            <a:ext cx="1806840" cy="482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青铜面具"/>
          <p:cNvPicPr/>
          <p:nvPr/>
        </p:nvPicPr>
        <p:blipFill>
          <a:blip r:embed="rId2"/>
          <a:stretch/>
        </p:blipFill>
        <p:spPr>
          <a:xfrm>
            <a:off x="2743200" y="380880"/>
            <a:ext cx="2927520" cy="3505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青铜神树"/>
          <p:cNvPicPr/>
          <p:nvPr/>
        </p:nvPicPr>
        <p:blipFill>
          <a:blip r:embed="rId3"/>
          <a:stretch/>
        </p:blipFill>
        <p:spPr>
          <a:xfrm>
            <a:off x="6324480" y="228600"/>
            <a:ext cx="2400480" cy="5448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16760" y="5181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铜立人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606480" y="4114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铜面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7111800" y="5791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铜神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三星堆”文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时间：商周同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地点：西南地区的成都平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青铜器的代表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青铜面具、青铜立人像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青铜神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 农业和畜牧业的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924360" y="1341360"/>
            <a:ext cx="507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五谷”等农作物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商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期已经齐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懂得选种、施肥和治虫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西周已使用青铜农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050920" y="3213000"/>
            <a:ext cx="68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家禽家畜的主要品种商朝时都已经有了，还建    有牲畜圈栏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商王室和贵族还有专门的牧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79280" y="4581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商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403280" y="465300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商业繁荣，都城繁华，交通发达，沿途有旅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79280" y="3213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畜牧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50920" y="148428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619280" y="1341360"/>
            <a:ext cx="25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生产种类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生产技术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使用工具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37:47Z</dcterms:created>
  <dc:creator/>
  <dc:description/>
  <dc:language>en-US</dc:language>
  <cp:lastModifiedBy>User</cp:lastModifiedBy>
  <dcterms:modified xsi:type="dcterms:W3CDTF">2015-01-20T13:13:47Z</dcterms:modified>
  <cp:revision>99</cp:revision>
  <dc:subject/>
  <dc:title>幻灯片 1</dc:title>
</cp:coreProperties>
</file>